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2A7F-2A07-413F-89E6-C9B42552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F158-A5D8-450E-BFCD-852D5050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FADE-ACD3-4867-90FA-73434040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5331-003C-4C29-A8AC-1AE0F13D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8C3E-5294-417C-9468-5B08A11C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68B9-867F-4668-B7BF-08B0E0D6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E144-9FBA-4B5D-BF28-94BE947A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9572-9B33-4BA1-8F12-D9DA5876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8EFB-9E38-429C-9CFE-1F3A9D6B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7289-AC96-4B1C-846F-EBEDE783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F299-487B-4E22-B9E0-00C47246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0075-CA68-471F-864C-8659B46A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6430-2C85-47E5-BC5F-4065AFD5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FE3F-6256-45B5-938C-138DF1D0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0E6D-7B85-4EF0-9E73-9E8F3557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3DC4-B0D5-44A7-BF7A-5FE66186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DFB3-1A7C-4198-BEDA-D5B6FC98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46F5A-7777-4251-9623-5F2DF7C7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87B1C-1694-4595-889C-E5A55852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ED57-44BB-4FE8-B5D6-C5DF4ABA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7E716-B7AB-4B8D-889B-59A5EE7B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283B0-F42D-4561-B406-6FAB1CF7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3B35-250E-41BC-AB94-E89C97B3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09599-2195-4EBB-B21A-A038D307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17FCA-0A67-4D48-AF8F-CB240D79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C9FC-3F94-4471-97C6-F0BFE9EB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E31AE-1A43-4443-AE48-AC8B21E7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E5235-CCD1-4FCE-8D70-955C9968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3940F-BA05-453E-8199-F1D952F9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50D51-9508-4A25-B511-3BEE8338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12AC7-8A7E-4DFC-AAF0-0E4A0E0B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6949-ABF7-4C32-BCB0-C3ED1C96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8BAD4-3AF4-4514-96FA-D613E3C4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D33F-092E-4E15-82D3-F8C8F26B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552F9-E376-4602-B9AD-82ACF8E5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4DDCC-1976-4473-B1D4-8E48F979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14738-AE88-45C5-B1B9-C638E8D3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4C919-07D3-4832-9C91-83C9304F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3EEDE-873C-41A7-8E19-3296FACA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265E1-E8E1-4502-84DE-5110C4A9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F960F-DE79-4D6E-B669-63A8734A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FABED-9C11-43D8-8835-4231A6FB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2F29F-9927-4E37-91C5-F1DA1C5F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028D-3385-410B-9D5A-606FC0CE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ED3A-8D4F-4547-83CD-83342AA3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ADBB9-B4C4-4EDE-BA4E-C1C6A28D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1DAC-169A-475B-AAB3-AFF1A569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58192-16CB-45AA-A434-F916048B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E1DB-0370-4BB0-8EA5-5253A39954D7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4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8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1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F86F-0411-48CF-ADEB-0707C7F1EF86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90CD-F1CA-46F9-89CD-D8CCD73145E3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5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8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9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2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33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4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39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FE45-9C0B-4D66-88CB-B5C6D5F58944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03640" y="115920"/>
            <a:ext cx="5324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cc"/>
                </a:solidFill>
                <a:latin typeface="Tahoma"/>
              </a:rPr>
              <a:t>Rzeźbiotwórcza rola fal morskich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3" name="Picture 4" descr="fala"/>
          <p:cNvPicPr/>
          <p:nvPr/>
        </p:nvPicPr>
        <p:blipFill>
          <a:blip r:embed="rId1"/>
          <a:stretch/>
        </p:blipFill>
        <p:spPr>
          <a:xfrm>
            <a:off x="179280" y="2133720"/>
            <a:ext cx="50403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Co to jest mierzeja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Mierzeja – 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budowana z piasku bariera wystająca ponad wodę. Oddziela zatokę od otwartego mor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Powstawanie mierze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2" name="Object 8"/>
          <p:cNvGraphicFramePr/>
          <p:nvPr/>
        </p:nvGraphicFramePr>
        <p:xfrm>
          <a:off x="0" y="2276640"/>
          <a:ext cx="9110520" cy="26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9110520" cy="26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Typy wybrzeż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wybrzeze_dalmatynskie"/>
          <p:cNvPicPr/>
          <p:nvPr/>
        </p:nvPicPr>
        <p:blipFill>
          <a:blip r:embed="rId1"/>
          <a:stretch/>
        </p:blipFill>
        <p:spPr>
          <a:xfrm>
            <a:off x="1692360" y="1413000"/>
            <a:ext cx="5545080" cy="49971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5708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dalmatyńsk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rias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Picture 5" descr="wybrzeze_riasowe"/>
          <p:cNvPicPr/>
          <p:nvPr/>
        </p:nvPicPr>
        <p:blipFill>
          <a:blip r:embed="rId1"/>
          <a:stretch/>
        </p:blipFill>
        <p:spPr>
          <a:xfrm>
            <a:off x="2195640" y="1700280"/>
            <a:ext cx="46083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fiord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0" name="Picture 6" descr="wybrzeze_fiordowe"/>
          <p:cNvPicPr/>
          <p:nvPr/>
        </p:nvPicPr>
        <p:blipFill>
          <a:blip r:embed="rId1"/>
          <a:stretch/>
        </p:blipFill>
        <p:spPr>
          <a:xfrm>
            <a:off x="2411280" y="1916280"/>
            <a:ext cx="432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szkier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Picture 6" descr="wybrzeze_szkierowe"/>
          <p:cNvPicPr/>
          <p:nvPr/>
        </p:nvPicPr>
        <p:blipFill>
          <a:blip r:embed="rId1"/>
          <a:stretch/>
        </p:blipFill>
        <p:spPr>
          <a:xfrm>
            <a:off x="2411280" y="1916280"/>
            <a:ext cx="3951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mierzej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15" name="Object 10"/>
          <p:cNvGraphicFramePr/>
          <p:nvPr/>
        </p:nvGraphicFramePr>
        <p:xfrm>
          <a:off x="2523960" y="1770120"/>
          <a:ext cx="40960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960" y="1770120"/>
                    <a:ext cx="40960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liman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8" name="Picture 6" descr="LIMAN"/>
          <p:cNvPicPr/>
          <p:nvPr/>
        </p:nvPicPr>
        <p:blipFill>
          <a:blip r:embed="rId1"/>
          <a:stretch/>
        </p:blipFill>
        <p:spPr>
          <a:xfrm>
            <a:off x="2195640" y="2492280"/>
            <a:ext cx="48369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Do zapamięta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Falowanie wody jest zazwyczaj wynikiem oddziaływania wiatru na jej powierzchni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Strome urwisko powstałe w wyniku podcinania brzegu przez fale to kli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Akumulacyjna działalność fal prowadzi do powstania mierzei, plaż, jezior przybrzeżnych oraz do wyrównania linii wybrzeż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4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Fale morskie to bardzo silny żywioł. Powszechnie wiadomo, że duże sztormy mogą powodować ogromne straty. Ale również małe fale morskie nieustannie zmieniają rzeźbę powierzchni Ziem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Jak powstaje fala morsk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Uderzenia wiatru w taflę wody wywołują drgania cząsteczek, powoduje to zmianę poziomu wody i powstanie fali. Im większa siła uderzenia tym fala wyżs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iły grawitacyjne Słońca i Księżyca powodują pływy morski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5472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Falowan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8" name="Picture 5" descr="images"/>
          <p:cNvPicPr/>
          <p:nvPr/>
        </p:nvPicPr>
        <p:blipFill>
          <a:blip r:embed="rId1"/>
          <a:stretch/>
        </p:blipFill>
        <p:spPr>
          <a:xfrm>
            <a:off x="3924360" y="2565360"/>
            <a:ext cx="4402080" cy="32990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6145200" y="616572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Brzeg Bałtyk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Falowanie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to oscylacyjny ruch cząstek wody po orbitach kołowych lub eliptycznych. Najczęstszą przyczyną falowania jest tarcie wiatru o powierzchnię wody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0" descr="220px-Wave_motion-i18n-mod"/>
          <p:cNvPicPr/>
          <p:nvPr/>
        </p:nvPicPr>
        <p:blipFill>
          <a:blip r:embed="rId1"/>
          <a:stretch/>
        </p:blipFill>
        <p:spPr>
          <a:xfrm>
            <a:off x="2340000" y="476280"/>
            <a:ext cx="4576680" cy="41608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1"/>
          <p:cNvSpPr/>
          <p:nvPr/>
        </p:nvSpPr>
        <p:spPr>
          <a:xfrm>
            <a:off x="250920" y="4941720"/>
            <a:ext cx="46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1 – kierunek przemieszczania się fali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2 – grzbiet fali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3 – wklęśnięcie f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A - orbita kołow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B - orbita eliptycz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14716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ecff"/>
                </a:solidFill>
                <a:latin typeface="Arial"/>
              </a:rPr>
              <a:t>Co to jest Abrazja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539640" y="335772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Abrazja (erozja morska)-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        procesy niszczące brzeg morski przez wody morskie i oceaniczne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Co to jest klif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Klif (faleza)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– urwisko na brzegu morza powstałe w wyniku podcinania brzegu przez fa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220px-14klif9maly"/>
          <p:cNvPicPr/>
          <p:nvPr/>
        </p:nvPicPr>
        <p:blipFill>
          <a:blip r:embed="rId1"/>
          <a:stretch/>
        </p:blipFill>
        <p:spPr>
          <a:xfrm>
            <a:off x="2556000" y="765000"/>
            <a:ext cx="4027320" cy="48517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"/>
          <p:cNvSpPr/>
          <p:nvPr/>
        </p:nvSpPr>
        <p:spPr>
          <a:xfrm>
            <a:off x="1506960" y="596412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Klif w Orłowie (Gdyn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7:00:38Z</dcterms:created>
  <dc:creator>Mrozowicz</dc:creator>
  <dc:description/>
  <dc:language>en-US</dc:language>
  <cp:lastModifiedBy>q</cp:lastModifiedBy>
  <dcterms:modified xsi:type="dcterms:W3CDTF">2013-03-16T14:26:36Z</dcterms:modified>
  <cp:revision>6</cp:revision>
  <dc:subject/>
  <dc:title>Lądy i Wody</dc:title>
</cp:coreProperties>
</file>